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gif" ContentType="image/gif"/>
  <Override PartName="/ppt/media/image27.jpeg" ContentType="image/jpeg"/>
  <Override PartName="/ppt/media/image5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4.gif" ContentType="image/gif"/>
  <Override PartName="/ppt/media/image7.wmf" ContentType="image/x-wmf"/>
  <Override PartName="/ppt/media/image32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31.wmf" ContentType="image/x-wmf"/>
  <Override PartName="/ppt/media/image29.wmf" ContentType="image/x-wmf"/>
  <Override PartName="/ppt/media/image13.jpeg" ContentType="image/jpeg"/>
  <Override PartName="/ppt/media/image23.wmf" ContentType="image/x-wmf"/>
  <Override PartName="/ppt/media/image34.jpeg" ContentType="image/jpeg"/>
  <Override PartName="/ppt/media/image35.jpeg" ContentType="image/jpeg"/>
  <Override PartName="/ppt/media/image19.jpeg" ContentType="image/jpeg"/>
  <Override PartName="/ppt/media/image2.gif" ContentType="image/gif"/>
  <Override PartName="/ppt/media/image6.wmf" ContentType="image/x-wmf"/>
  <Override PartName="/ppt/media/image36.wmf" ContentType="image/x-wmf"/>
  <Override PartName="/ppt/media/image3.gif" ContentType="image/gif"/>
  <Override PartName="/ppt/media/image10.wmf" ContentType="image/x-wmf"/>
  <Override PartName="/ppt/media/image22.gif" ContentType="image/gif"/>
  <Override PartName="/ppt/media/image25.jpeg" ContentType="image/jpeg"/>
  <Override PartName="/ppt/media/image11.jpeg" ContentType="image/jpeg"/>
  <Override PartName="/ppt/media/image1.gif" ContentType="image/gif"/>
  <Override PartName="/ppt/media/image15.wmf" ContentType="image/x-wm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78D-47E7-4D37-8DE5-76AE6036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1472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7D1-5167-4309-8C7D-3581479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9E-B598-4ADC-B69B-60BF8BE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1472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9BD-B4C4-4FCA-9F12-80F6F35D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1E6-6DE0-49BA-9C4F-71C56F3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63C-F718-4BE0-A7FD-5CBC7651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7D5-A850-4E0C-AE3A-AD1298EF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161-72C4-4E02-82F6-2C26771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128-44EA-427A-A615-BAB7CFB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34F-158A-4C48-9ABC-0191CDC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41472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292-E21B-4AD2-BFD3-18CE785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1472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5D8-6CB5-42A6-8445-A582FC9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StarbabeHmkBold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tarbabeHmk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StarbabeHmkBold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264-13C3-4456-8EB5-8E93FF08D1D3}" type="datetime"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H.M. Bod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StarbabeHmk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CD8D-701F-463A-B10A-610842624091}" type="slidenum">
              <a:rPr b="0" lang="en-US" sz="1000" spc="-1" strike="noStrike">
                <a:solidFill>
                  <a:srgbClr val="f8f8f8"/>
                </a:solidFill>
                <a:latin typeface="StarbabeHmk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image" Target="../media/image21.wmf"/><Relationship Id="rId4" Type="http://schemas.openxmlformats.org/officeDocument/2006/relationships/image" Target="../media/image36.wmf"/><Relationship Id="rId5" Type="http://schemas.openxmlformats.org/officeDocument/2006/relationships/hyperlink" Target="file:///../../video/shiki%20no%20uta.mp4" TargetMode="External"/><Relationship Id="rId6" Type="http://schemas.openxmlformats.org/officeDocument/2006/relationships/hyperlink" Target="file:///../../video/shiki%20no%20uta.mp4" TargetMode="External"/><Relationship Id="rId7" Type="http://schemas.openxmlformats.org/officeDocument/2006/relationships/hyperlink" Target="file:///../../video/shiki%20no%20uta.mp4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66"/>
                </a:solidFill>
                <a:latin typeface="StarbabeHmkBold"/>
                <a:ea typeface="NtMotoyaKyotai"/>
              </a:rPr>
              <a:t>き　せ　つ</a:t>
            </a:r>
            <a:endParaRPr b="0" lang="en-US" sz="9600" spc="-1" strike="noStrike">
              <a:solidFill>
                <a:srgbClr val="f8f8f8"/>
              </a:solidFill>
              <a:latin typeface="StarbabeHmk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08720" y="62064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35252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164360" y="494172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140976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6360" y="429264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66"/>
                </a:solidFill>
                <a:latin typeface="Comic Sans MS"/>
                <a:ea typeface="ＭＳ Ｐゴシック"/>
              </a:rPr>
              <a:t>seas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StarbabeHmkBol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41920" y="3556080"/>
            <a:ext cx="4402080" cy="3301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502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3780000" cy="2835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59280" y="2637000"/>
            <a:ext cx="36003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ccccff"/>
                </a:solidFill>
                <a:latin typeface="Times New Roman"/>
                <a:ea typeface="NtMotoyaKyotai"/>
              </a:rPr>
              <a:t>ゆ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528-BC5F-4189-B197-7ECB8E2825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DF3E8-44E0-4B79-BD04-BCB2D41F4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2924280"/>
            <a:ext cx="7129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0066"/>
                </a:solidFill>
                <a:latin typeface="NtMotoyaKyotai"/>
                <a:ea typeface="NtMotoyaKyotai"/>
              </a:rPr>
              <a:t>四　季　の　う　た</a:t>
            </a:r>
            <a:endParaRPr b="0" lang="en-US" sz="60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78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し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         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751120" cy="2816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244620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4130640"/>
            <a:ext cx="2663640" cy="27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093080" y="4653000"/>
            <a:ext cx="1231920" cy="1795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537372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..\..\video\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shiki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 no uta.m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sten to the Song 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四季のうた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5324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0066"/>
                </a:solidFill>
                <a:latin typeface="StarbabeHmkBold"/>
                <a:ea typeface="NtMotoyaKyotai"/>
              </a:rPr>
              <a:t>四　　季</a:t>
            </a:r>
            <a:endParaRPr b="0" lang="en-US" sz="66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18900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し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　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32000" y="2852640"/>
            <a:ext cx="3033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春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1844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は　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180684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751120" cy="281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827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817640" cy="16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5805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708360" y="1125360"/>
            <a:ext cx="1593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春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189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は　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465640" cy="21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9640" y="278136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1608120" cy="16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943280" cy="126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773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2421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herry blos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349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Comic Sans MS"/>
                <a:ea typeface="NtMotoyaKyotai"/>
              </a:rPr>
              <a:t>は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285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Comic Sans MS"/>
                <a:ea typeface="NtMotoyaKyotai"/>
              </a:rPr>
              <a:t>さく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292640"/>
            <a:ext cx="9144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ff0066"/>
                </a:solidFill>
                <a:latin typeface="NtMotoyaKyotai"/>
                <a:ea typeface="NtMotoyaKyotai"/>
              </a:rPr>
              <a:t>はな</a:t>
            </a:r>
            <a:r>
              <a:rPr b="1" lang="en-NZ" sz="6000" spc="-1" strike="noStrike">
                <a:solidFill>
                  <a:srgbClr val="000099"/>
                </a:solidFill>
                <a:latin typeface="Comic Sans MS"/>
                <a:ea typeface="NtMotoyaKyotai"/>
              </a:rPr>
              <a:t>/</a:t>
            </a:r>
            <a:r>
              <a:rPr b="1" lang="ja-JP" sz="6000" spc="-1" strike="noStrike">
                <a:solidFill>
                  <a:srgbClr val="ff0066"/>
                </a:solidFill>
                <a:latin typeface="NtMotoyaKyotai"/>
                <a:ea typeface="NtMotoyaKyotai"/>
              </a:rPr>
              <a:t>さくら</a:t>
            </a:r>
            <a:r>
              <a:rPr b="1" lang="ja-JP" sz="6000" spc="-1" strike="noStrike">
                <a:solidFill>
                  <a:srgbClr val="000099"/>
                </a:solidFill>
                <a:latin typeface="NtMotoyaKyotai"/>
                <a:ea typeface="NtMotoyaKyotai"/>
              </a:rPr>
              <a:t>が、</a:t>
            </a:r>
            <a:r>
              <a:rPr b="1" lang="ja-JP" sz="6000" spc="-1" strike="noStrike">
                <a:solidFill>
                  <a:srgbClr val="008000"/>
                </a:solidFill>
                <a:latin typeface="NtMotoyaKyotai"/>
                <a:ea typeface="NtMotoyaKyotai"/>
              </a:rPr>
              <a:t>さきます</a:t>
            </a:r>
            <a:r>
              <a:rPr b="1" lang="ja-JP" sz="6000" spc="-1" strike="noStrike">
                <a:solidFill>
                  <a:srgbClr val="000099"/>
                </a:solidFill>
                <a:latin typeface="NtMotoyaKyotai"/>
                <a:ea typeface="NtMotoyaKyotai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53360"/>
            <a:ext cx="91440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5445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lowers/cherry is going to bloss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F6E-826B-4F4F-AAF7-F073CF3FBC1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3D23D-C85C-4F05-8005-A874FD67C553}" type="datetime1">
              <a:rPr lang="en-US"/>
              <a:t>07/30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64240" y="2565360"/>
            <a:ext cx="3222720" cy="429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363852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708360" y="1125360"/>
            <a:ext cx="1593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春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890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33cc"/>
                </a:solidFill>
                <a:latin typeface="Times New Roman"/>
                <a:ea typeface="NtMotoyaKyotai"/>
              </a:rPr>
              <a:t>は　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278136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33cc"/>
                </a:solidFill>
                <a:latin typeface="Comic Sans MS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3789360"/>
            <a:ext cx="56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66"/>
                </a:solidFill>
                <a:latin typeface="NtMotoyaKyotai"/>
                <a:ea typeface="NtMotoyaKyotai"/>
              </a:rPr>
              <a:t>はなみ   おはな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B42-9095-45DF-AE4D-772AE6AA2C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85E2E-A207-4968-BEC1-85A3F0F99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5324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0066"/>
                </a:solidFill>
                <a:latin typeface="StarbabeHmkBold"/>
                <a:ea typeface="NtMotoyaKyotai"/>
              </a:rPr>
              <a:t>四　　季</a:t>
            </a:r>
            <a:endParaRPr b="0" lang="en-US" sz="66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1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し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　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32000" y="2852640"/>
            <a:ext cx="3033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夏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177336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な　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4462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4360" y="4797360"/>
            <a:ext cx="175104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020000" y="1700280"/>
            <a:ext cx="1552680" cy="1181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732720" y="4581360"/>
            <a:ext cx="2106360" cy="175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92360" y="580536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Sum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2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A5F-8E2C-4C38-8AA6-0D7F96E120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62CD9-4B51-48F9-8799-A4408826F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324400" cy="15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0066"/>
                </a:solidFill>
                <a:latin typeface="StarbabeHmkBold"/>
                <a:ea typeface="NtMotoyaKyotai"/>
              </a:rPr>
              <a:t>四　　季</a:t>
            </a:r>
            <a:endParaRPr b="0" lang="en-US" sz="66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189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し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　     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132000" y="2852640"/>
            <a:ext cx="3033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秋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84464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あ　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236000" y="4581360"/>
            <a:ext cx="1400040" cy="180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382840" cy="2440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428480" cy="141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77080" y="1700280"/>
            <a:ext cx="1747800" cy="180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360" y="5805360"/>
            <a:ext cx="23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Autu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StarbabeHmkBol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283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0052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4859280" cy="202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35280" y="2349360"/>
            <a:ext cx="5688000" cy="155700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0066"/>
                </a:solidFill>
                <a:latin typeface="Times New Roman"/>
                <a:ea typeface="NtMotoyaKyotai"/>
              </a:rPr>
              <a:t>こうよ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 from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0FB-CA5D-4FE6-BBCC-0AB1ECBE6F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69570-C2EE-4EEB-9D84-1690826B21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532440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0066"/>
                </a:solidFill>
                <a:latin typeface="NtMotoyaKyotai"/>
                <a:ea typeface="NtMotoyaKyotai"/>
              </a:rPr>
              <a:t>四　　季</a:t>
            </a:r>
            <a:endParaRPr b="0" lang="en-US" sz="6600" spc="-1" strike="noStrike">
              <a:solidFill>
                <a:srgbClr val="f8f8f8"/>
              </a:solidFill>
              <a:latin typeface="StarbabeHmkBold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8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し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	</a:t>
            </a:r>
            <a:r>
              <a:rPr b="1" lang="ja-JP" sz="2400" spc="-1" strike="noStrike">
                <a:solidFill>
                  <a:srgbClr val="660066"/>
                </a:solidFill>
                <a:latin typeface="NtMotoyaKyotai"/>
                <a:ea typeface="NtMotoyaKyotai"/>
              </a:rPr>
              <a:t>　   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32000" y="2852640"/>
            <a:ext cx="3033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NtMotoyaKyotai"/>
              </a:rPr>
              <a:t>冬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NtMotoyaKyotai"/>
              <a:ea typeface="NtMotoyaKyotai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18446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Times New Roman"/>
                <a:ea typeface="NtMotoyaKyotai"/>
              </a:rPr>
              <a:t>ふ　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72360" y="4724280"/>
            <a:ext cx="1779480" cy="18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1743120" cy="1778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1869840" cy="209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413000" cy="181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00000" y="333360"/>
            <a:ext cx="1825560" cy="172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92360" y="5805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29:37Z</dcterms:created>
  <dc:creator>Nan Shastry</dc:creator>
  <dc:description/>
  <dc:language>en-US</dc:language>
  <cp:lastModifiedBy>Ministry of Education</cp:lastModifiedBy>
  <dcterms:modified xsi:type="dcterms:W3CDTF">2010-06-12T09:36:40Z</dcterms:modified>
  <cp:revision>24</cp:revision>
  <dc:subject/>
  <dc:title>Blue Sky Border</dc:title>
</cp:coreProperties>
</file>